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chimes.wav" ContentType="audio/x-wav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image15.wmf" ContentType="image/x-wmf"/>
  <Override PartName="/ppt/media/image1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F9D5-98F3-4490-B8AD-739714E8E71E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4261-58FB-4E5D-AECA-E7C4D768ABD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3E45-AA92-4D31-82DC-12287BB7ED33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07FA-72D1-4B26-871E-8B6860541883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4424-720D-4C66-BF28-66F303E58317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AB9A-732F-4EE3-9E1B-C0568B2BABC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1CF9-849F-4527-8E3B-8115E46BDCE1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AF10-72BC-4C48-A2CE-02DDC118E315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F848-AC70-4820-9C2F-AB6CD92BBB70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237F-297F-4B56-B68F-BF1C7ED7ACCB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46E3-096B-4B0C-9F8A-F795D11583F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04F4-2EF1-4678-9D48-0AFA99510D5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E2B0-FD56-4485-8443-7CCA9DB2443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270E-4AE1-4E47-86B0-FAC9E63E85B3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B6A3-F0EA-4A32-87B8-4FEACE749016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EA5C-4687-4A83-B7BA-DE057717C0C2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41320" y="768240"/>
            <a:ext cx="5497560" cy="412452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7A70-3EB9-40F8-8EC2-060D612231C6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9B1E-BBDE-4AD2-8B0D-0B8BD6046D9C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5AEF-7625-43ED-9EF9-49577015BFE5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3D92-35AA-45DF-9CF2-C803607C17AE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DAE2-BCED-45DF-9361-350A749966A0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0837-A6AF-4159-B0A0-878B6DA21C9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3BED-724C-4F43-80BB-DBBBA5D8DA2E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11CC-1523-461C-8DD4-7AB6F70E1090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E9F7-982C-4617-90E8-A2FE22A74C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4C0F-33AA-4234-AB1B-3E3260342E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F742-2317-4440-AC7A-0AE8434352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0A8F-A8AA-4594-A9B4-29DDF1C76F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DE365-B517-4F87-8953-301620ECA5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ACFF-F7FC-4842-95FA-6D68420A5E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5167-796D-4598-84F8-3B8CBA5423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EAF1-EC06-4EA5-A97A-B48A245D6C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D9DB-0CE3-4EC0-9325-19EDB6290A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D8D2-43D4-42E1-8FD6-DEBEC74DA2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A184-7D67-4F0A-AD01-458D729184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5950-A4D7-4BAB-93CB-81C4EE4D94B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Овал 8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3" name="Овал 8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Овал 9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9"/>
          <p:cNvSpPr/>
          <p:nvPr/>
        </p:nvSpPr>
        <p:spPr>
          <a:xfrm>
            <a:off x="4357800" y="6500880"/>
            <a:ext cx="18572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В. Репин, 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1"/>
          </p:nvPr>
        </p:nvSpPr>
        <p:spPr>
          <a:xfrm>
            <a:off x="8613720" y="6500520"/>
            <a:ext cx="4572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B93C-A249-40DA-886D-8761ED19AA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Овал 9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3" name="Овал 9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Овал 12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8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Прямоугольник 8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0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Блок-схема: процесс 9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Блок-схема: процесс 12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7;&#1095;&#1077;&#1089;&#1082;&#1080;&#1081;_&#1103;&#1079;&#1099;&#1082;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3920" y="499680"/>
            <a:ext cx="7643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Сквозные бизнес-процессы в компании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43000" y="2928600"/>
            <a:ext cx="7693200" cy="3500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згляд на организацию, как на систем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ффекты синерги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блемы, возникающие в организации из-за неэффективных процесс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«Сквозные» или межфункциональные процесс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озможные подходы к организации управления сквозными процессам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5855-10B0-4C75-A570-1BAD1A4442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1413000" y="0"/>
            <a:ext cx="7731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4200" y="3929040"/>
            <a:ext cx="328608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имер № 1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схемы сквозного процесса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ием заказа клиен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71360" y="-71640"/>
            <a:ext cx="74991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Пример № 2 схемы сквозного процесса. Разработка нового продукта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6D37-9BBC-445A-AADE-D90EC83E26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1000080" y="785880"/>
            <a:ext cx="82152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28440" y="0"/>
            <a:ext cx="8001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Пример № 3 схемы сквозного процесса.  Отправка и монтаж оборудования у клиента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7A5D-A965-44F2-8365-B134B8F74A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1000080" y="777960"/>
            <a:ext cx="815040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9720" y="70920"/>
            <a:ext cx="7929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Пример № 4 схемы сквозного процесса.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Выпуск «газеты» меню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BC5A-8641-459F-A45C-00CBD9B827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1"/>
          <a:stretch/>
        </p:blipFill>
        <p:spPr>
          <a:xfrm>
            <a:off x="0" y="928800"/>
            <a:ext cx="9215280" cy="59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8715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Некоторые критерии определения сквозных процессов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вв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DEC7-97D2-4CA3-A89F-1826A1B5A2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71280" y="1285920"/>
            <a:ext cx="9001440" cy="25858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-360" y="4000320"/>
            <a:ext cx="900108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ыход поставляется внешнему (внутреннему) потребителю 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уществует активное взаимодействие подразделения, выполняющего процесс, с другими подразделениями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для получения выхода процессу необходимы ресурсы, которые полностью не могут быть произведены внутри самого процесса и должны поставляться из других процессов на промежуточных стадиях выполнения процесса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Руководитель подразделения не может обеспечить требуемые показатели выхода (результативность, качество) и удовлетворенность клиента, 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ущественная (большая) часть поставляемого потребителю продукта/услуги формируется в других процессах на предыдущих стадиях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Что дает выделение сквозных процессов?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71360" y="16426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нимание  менеджментом организации как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ИСТЕМЫ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 реальное управление процессами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трудники начинают «видеть процессы целиком» и понимают свою роль в удовлетворении потребностей клиенто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лучшение взаимодействия вовлеченных в сквозные процессы подразделений (сотрудников) и достижение синергетических эффекто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к следствие «работы» со сквозными процессами повышается результативность, эффективность и качество.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ИСТЕМ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зменяет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4B5F-6C03-42BB-85E9-7247F6656E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Примеры реальных улучшений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143000" y="1428480"/>
            <a:ext cx="76485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величение объема производства в 2 раза (на тех же площадях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кращение цикла разработки нового изделия с 8 до 4 месяце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кращение до нуля числа случаев поставки некомплектного оборудова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нижение времени простоев оборудования в 2 раз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кращение времени подготовки ответа на заявку клиента с 2 недель до 3-4 дне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AC58-CEFB-43A5-A973-25C8A9712C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9720" y="71280"/>
            <a:ext cx="85726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Какие процессы не являются сквозными?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FD58-BDFC-4211-BB35-3D06C8846B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642960"/>
          <a:ext cx="9144000" cy="6215040"/>
        </p:xfrm>
        <a:graphic>
          <a:graphicData uri="http://schemas.openxmlformats.org/drawingml/2006/table">
            <a:tbl>
              <a:tblPr/>
              <a:tblGrid>
                <a:gridCol w="3214800"/>
                <a:gridCol w="5929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аименование проц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Интерпре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Процесс закупки, производства и отгрузки товарных свине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не сквозной процесс, а часть цепочки создания ценности , выполняемой организа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Процесс производства готовой продукц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не сквозной процесс, а последовательность процессов, обусловленная технологией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Деятельность отдела сбыт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не сквозной процесс, а набор фрагментов различных проце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Процесс коммуникаций в организац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вообще не процесс с точки зрения управления, так как нельзя корректно определить его гран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Процедура управления документацией внутреннего происхожд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не сквозной процесс, а описание последовательности шагов по обработке документов определенного ти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перационная  цепочка (описанная в виде схемы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RI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sewis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ил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usiness-Studi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) из 58 шаг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о не сквозной процесс, а некоторое субъективное представление цепочки операций, случайно объединенных в рамках одной сх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855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«Типовой» перечень сквозных процессов организации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214280" y="1771560"/>
            <a:ext cx="757080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ратегическое управле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ем заказа клиента (в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2B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работка новой продукц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служивание оборудова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крытие нового филиала (проект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юджетирова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ем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вольнение сотрудни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rbel"/>
              </a:rPr>
              <a:t>Перечень сквозных процессов - свой для каждой организации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0F4C-5A7B-40EB-9890-6D7B4333AE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2640" y="2901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Как управлять «сквозными» процессами?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43000" y="18568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1. «Ничего не менять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2. «Организация  группы вокруг процесс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3. «Матричное управление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4. «Куратор со стороны высшего руководств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5. «Мониторинг владельцем процесса и куратор свыше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 № 6. «Управление через регламенты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Номер слайда 6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0453-9B9C-44DA-8DFB-51B95DA2D6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Организация как система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43000" y="1519200"/>
            <a:ext cx="749952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рганизация – это сложная систем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истема – сеть взаимозависимых компонентов, работающих вместе для достижения единой цел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Чтобы управлять системой, нужно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понимать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взаимоотношения между всеми компонентами в ее пределах и людьми, которые в ней работаю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истема требует у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«Если компоненты системы оказываются предоставленными сами себе, они быстро становятся эгоистичными, конкурирующими, независимыми и таким образом уничтожают систему…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41E8-0D6E-4606-B8BD-CE9CD38A24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8760" y="5467320"/>
            <a:ext cx="29923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Corbel"/>
              </a:rPr>
              <a:t>Организация группы вокруг процесса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0" y="2143080"/>
            <a:ext cx="3773520" cy="30211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6"/>
          <p:cNvSpPr/>
          <p:nvPr/>
        </p:nvSpPr>
        <p:spPr>
          <a:xfrm>
            <a:off x="1208160" y="318960"/>
            <a:ext cx="7792920" cy="13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f271c"/>
                </a:solidFill>
                <a:latin typeface="Corbel"/>
              </a:rPr>
              <a:t>Управление сквозными процессам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2"/>
          <a:stretch/>
        </p:blipFill>
        <p:spPr>
          <a:xfrm>
            <a:off x="3840120" y="1928880"/>
            <a:ext cx="5303880" cy="3241440"/>
          </a:xfrm>
          <a:prstGeom prst="rect">
            <a:avLst/>
          </a:prstGeom>
          <a:ln w="0">
            <a:noFill/>
          </a:ln>
        </p:spPr>
      </p:pic>
      <p:sp>
        <p:nvSpPr>
          <p:cNvPr id="412" name="Заголовок 5"/>
          <p:cNvSpPr/>
          <p:nvPr/>
        </p:nvSpPr>
        <p:spPr>
          <a:xfrm>
            <a:off x="4714920" y="5143680"/>
            <a:ext cx="36352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f271c"/>
                </a:solidFill>
                <a:latin typeface="Corbel"/>
              </a:rPr>
              <a:t>Матричное управление процесс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11"/>
          <p:cNvSpPr/>
          <p:nvPr/>
        </p:nvSpPr>
        <p:spPr>
          <a:xfrm flipH="1">
            <a:off x="3785760" y="1928880"/>
            <a:ext cx="1800" cy="47880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Номер слайда 10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EC45-5F24-4BEE-BC5F-37DACE85D3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1680" y="5929200"/>
            <a:ext cx="299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Corbel"/>
              </a:rPr>
              <a:t>Куратор со стороны вышестоящего руководства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1143000" y="214200"/>
            <a:ext cx="77929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f271c"/>
                </a:solidFill>
                <a:latin typeface="Corbel"/>
              </a:rPr>
              <a:t>Управление сквозными процессам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11"/>
          <p:cNvSpPr/>
          <p:nvPr/>
        </p:nvSpPr>
        <p:spPr>
          <a:xfrm flipH="1">
            <a:off x="4357800" y="1928880"/>
            <a:ext cx="1440" cy="47862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155520" y="2071800"/>
            <a:ext cx="3773520" cy="37670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4857840" y="1857240"/>
            <a:ext cx="3790800" cy="3988080"/>
          </a:xfrm>
          <a:prstGeom prst="rect">
            <a:avLst/>
          </a:prstGeom>
          <a:ln w="0">
            <a:noFill/>
          </a:ln>
        </p:spPr>
      </p:pic>
      <p:sp>
        <p:nvSpPr>
          <p:cNvPr id="420" name="Заголовок 5"/>
          <p:cNvSpPr/>
          <p:nvPr/>
        </p:nvSpPr>
        <p:spPr>
          <a:xfrm>
            <a:off x="5357880" y="5929200"/>
            <a:ext cx="299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f271c"/>
                </a:solidFill>
                <a:latin typeface="Corbel"/>
              </a:rPr>
              <a:t>Мониторинг владельцем процесса и куратор свы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Номер слайда 9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8201-C277-4300-BAAE-EE4AA4B220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1208160" y="428760"/>
            <a:ext cx="779292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f271c"/>
                </a:solidFill>
                <a:latin typeface="Corbel"/>
              </a:rPr>
              <a:t>Управление сквозными процессам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142920" y="2138400"/>
            <a:ext cx="8858160" cy="4148280"/>
          </a:xfrm>
          <a:prstGeom prst="rect">
            <a:avLst/>
          </a:prstGeom>
          <a:ln w="0">
            <a:noFill/>
          </a:ln>
        </p:spPr>
      </p:pic>
      <p:sp>
        <p:nvSpPr>
          <p:cNvPr id="424" name="Номер слайда 8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83D9-75E2-497B-A76B-C9521C940D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По каким критериям выбирать сквозные процессы для оптимизации?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143000" y="2000160"/>
            <a:ext cx="781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есурсы, находящиеся в управлени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процесс стратегического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озможный масштаб проблем, связанных с несоответствующими выходами процесса 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процесс разработки нового продукта, процесс разработки меню и т.п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вторяемость процесса 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много раз в сутки, несколько раз в месяц и т.п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Тиражируемость» процесса 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использование в разных филиалах  и т.п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начительные потоки информации (документов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ажность процесса с точки зрения корпоративной культуры 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процесс приема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 увольнения сотрудников, процесс подготовки к празднованию Нового года ;-)) и т.п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1"/>
          <a:stretch/>
        </p:blipFill>
        <p:spPr>
          <a:xfrm>
            <a:off x="6786720" y="1500120"/>
            <a:ext cx="1214280" cy="1214640"/>
          </a:xfrm>
          <a:prstGeom prst="rect">
            <a:avLst/>
          </a:prstGeom>
          <a:ln w="0">
            <a:noFill/>
          </a:ln>
        </p:spPr>
      </p:pic>
      <p:sp>
        <p:nvSpPr>
          <p:cNvPr id="428" name="Номер слайда 6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AD61-BC8C-4AE1-9825-382271DBA1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14280" y="4996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Автоматизация сквозных процессов в </a:t>
            </a:r>
            <a:r>
              <a:rPr b="0" lang="en-US" sz="3400" spc="-1" strike="noStrike">
                <a:solidFill>
                  <a:srgbClr val="572314"/>
                </a:solidFill>
                <a:latin typeface="Gill Sans MT"/>
              </a:rPr>
              <a:t>BPM</a:t>
            </a: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-системе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43000" y="2017800"/>
            <a:ext cx="77407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се ли сквозные процессы целесообразно автоматизировать в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PM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систем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ритерии выбора сквозных процессов для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PM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системы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цесс является сквозным (т.е. проходит через несколько подразделений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оспроизводимость процесса (оптимальный вариант – процесс находится в состоянии статистической управляемости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цесс часто повторяется (несколько раз за рабочий день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рамках процесса существует значительный документооборот (десятки и сотни документов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рамках процесса активно используется программное обеспечение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частники процесса имеют доступ к компьютерам; имеется се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1" name="Picture 7" descr=""/>
          <p:cNvPicPr/>
          <p:nvPr/>
        </p:nvPicPr>
        <p:blipFill>
          <a:blip r:embed="rId1"/>
          <a:stretch/>
        </p:blipFill>
        <p:spPr>
          <a:xfrm>
            <a:off x="7072200" y="1357200"/>
            <a:ext cx="1166760" cy="1166760"/>
          </a:xfrm>
          <a:prstGeom prst="rect">
            <a:avLst/>
          </a:prstGeom>
          <a:ln w="0">
            <a:noFill/>
          </a:ln>
        </p:spPr>
      </p:pic>
      <p:sp>
        <p:nvSpPr>
          <p:cNvPr id="432" name="Номер слайда 6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F81E-E563-4290-8850-A2112A82D7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928800" y="1285920"/>
            <a:ext cx="800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трудовой процесс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Ф.Тейлор). Выделение и анализ блоков «человек-труд», разделение труда на элементарные части и оптимизация их выполнения, человек – запчас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машин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А. Файоль, Л. Урвик). Выделение функциональных звеньев, планирование, координация, контроль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общин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Э. Мэйо, Ф. Ротлисбергер). «Неформальная» структура организации, социально-психологическая «организация в организации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систем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(Дж. Марч, Г. Саймон). Техническая подсистема, административная, неформальная, экономическая и т.п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организм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нутренние органы, характер, болезни и т.п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бюрократическая структур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(М. Вебер). Бюрократическая концепция социума, рационализация поведения человека, стандартизация деятельности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политическая систем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(М. Крозье). Классовая концепция устройства. Групповые интерес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рганизация – дело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(Г. Альтшуллер). Совокупность взаимодействующих процесс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70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Различные взгляды на организацию как систему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411B-74AE-4279-B8F0-FC50E02572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Понятие синергии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000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инерги́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инерги́зм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(от </a:t>
            </a:r>
            <a:r>
              <a:rPr b="0" lang="ru-RU" sz="24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греч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συνεργία Synergos — вместе действующий) — это комбинированное воздействие двух или более факторов, характеризующееся тем, что их объединённое действие существенно превосходит эффект каждого отдельно взятого компонента и их сумм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+1=4 или 6?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инергия внутри организации: сквозные процессы, организация как систем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инергия при слиянии организац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F4A9-9A46-438E-820E-D3BADF0A61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Условия возникновения синергии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71360" y="1699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личие нескольких субъектов (организаций, подразделений, специалистов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озможность налаживания коммуникаций между объекта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Единая система измерений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цен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цели и показател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перационные определе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отивация на получение эффект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личие необходимых ресурсов для реализации эффектов (в т.ч. времени руководителей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542E-7D58-4CD5-9A7F-0FCD5052AA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4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Синергия при взаимодействии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73160" y="149976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Продажа продукции компании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взаимодействие менеджера по продаже, маркетолога, инженера, финансиста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огласование условий договора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взаимодействие менеджера по продажам, юриста, финансиста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Разработка нового изделия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взаимодействие маркетолога, менеджера по продажам, технолога, менеджера по закупке, экономиста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Прием на работу нового сотрудника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взаимодействие менеджера по персоналу, начальника подразделения, мастера-наставника, бухгалтера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773E-3E93-489C-AE92-3A2B965108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70920"/>
            <a:ext cx="74995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имеры потерь и их причин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Номер слайда 5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FB61-8A54-421F-893A-9E71CBB16D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0" descr=""/>
          <p:cNvPicPr/>
          <p:nvPr/>
        </p:nvPicPr>
        <p:blipFill>
          <a:blip r:embed="rId1"/>
          <a:stretch/>
        </p:blipFill>
        <p:spPr>
          <a:xfrm>
            <a:off x="-173160" y="642960"/>
            <a:ext cx="98888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7499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ичины неэффективных процессов </a:t>
            </a:r>
            <a:r>
              <a:rPr b="0" i="1" lang="ru-RU" sz="2800" spc="-1" strike="noStrike">
                <a:solidFill>
                  <a:srgbClr val="572314"/>
                </a:solidFill>
                <a:latin typeface="Corbel"/>
              </a:rPr>
              <a:t>(один из возможных взглядов)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0E62-2085-4CBF-93D1-626A75A868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-25560" y="1428840"/>
            <a:ext cx="92138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428760"/>
            <a:ext cx="7499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72314"/>
                </a:solidFill>
                <a:latin typeface="Corbel"/>
              </a:rPr>
              <a:t>Проблемы, возникающие из-за неэффективных процессов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Номер слайда 4"/>
          <p:cNvSpPr/>
          <p:nvPr/>
        </p:nvSpPr>
        <p:spPr>
          <a:xfrm>
            <a:off x="8613720" y="6500880"/>
            <a:ext cx="457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0975-EEF6-45A8-844C-89E0772DB9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071720" y="1842840"/>
            <a:ext cx="764352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нижение прибыли, неэффективное использование капитал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изкий темп развития организац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достаточное качество продукции, неудовлетворенные клиенты, потеря рынка сбы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изкие зарплаты, неудовлетворенность сотрудников своим труд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9:38:36Z</dcterms:created>
  <dc:creator>www</dc:creator>
  <dc:description/>
  <dc:language>en-US</dc:language>
  <cp:lastModifiedBy>www</cp:lastModifiedBy>
  <dcterms:modified xsi:type="dcterms:W3CDTF">2009-01-19T09:14:46Z</dcterms:modified>
  <cp:revision>135</cp:revision>
  <dc:subject/>
  <dc:title>BPM – последняя надежда системной оптимизации компании</dc:title>
</cp:coreProperties>
</file>